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C6EA-0537-4253-BE4B-B3AD0D50F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r on definition of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r on definition of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eight of hand - chebi is not currently disentang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mean when we say we get rid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on regulation terms have their essence c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on regulation terms have their essence c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vs essenti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ou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: nothing is being removed from ontology, only enha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te==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EA8-F96F-428F-B69C-0FC75062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F7A-17AC-45EA-ABBB-254F18DB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4C7-4880-45D0-9EA3-F4AB8802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E50-F950-407A-B839-51F5A887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406-CC66-412D-A4D6-8864885F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C76-A018-4E08-AFCA-AB3608C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968-4984-4802-B483-F9DF4460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6C7-FBB1-4270-B7D3-BB0F2C32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AD9-399D-4BD1-9F8C-CA860130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5E3-29F5-4AEC-80CD-FE2E9EC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FAB-A154-4CB1-8A15-84F1B1B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AF5-0029-463F-8863-B7EDCAD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6DF3-EE0D-4416-903C-320716749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yuri.lbl.gov/amigo/obo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ruitfly.org/~cjm/obo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of pre-coordin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ysteine biosynthes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ric term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iosynthesi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criminating characteristic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output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tural language (Aristotelian style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biosynthesi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roce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in Obo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057400"/>
            <a:ext cx="8991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001934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ntersection_of: GO:0009058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GO:0009070 ! serine family amino acid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GO:0006534 ! cysteine metabo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lternate syntax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d in pheno-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compa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OWL abstract 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 use Obo1.2 format or natural language in the rest of this pres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81080"/>
            <a:ext cx="8991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:cysteine_biosynthesis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:biosynthesis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utputs(CHEBI:cyste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is allows us to dynamically untang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axis view (primar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, via generic term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logical_proc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iosynthe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7899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participant axis view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mino aci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rine family amino aci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7899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ystein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bined 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same as current tangled diamond lattic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l dem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/amigo/obo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ording the relationship is importan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y not just a simple cross-product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biosynthes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onships are important for reasoning and query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cystein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biosynthesi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ser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mRNA export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urin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heat str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out the relations, the logical definition is not specific enoug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not captu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ons should come from 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re requi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ltiple discriminating characteristics are allow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ysteine biosynthesis from seri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term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scriminating characteristic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er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83080"/>
            <a:ext cx="8534520" cy="146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 from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09058     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input CHEBI:17822   !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e terms can be nest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981080"/>
            <a:ext cx="8686800" cy="311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regulation of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50789 ! regulation of biologic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regulates GO:0019344  !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001934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09058     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ulation^regulates(biosynthesis^outputs(cysteine)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ulation^regulates(biosynthesis)^outputs(cystein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7148160" y="518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ill San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43920" y="563760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e terms can optionally be manufactured in bul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eric term: {metabolism,biosynthesis}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: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s_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{serine, cysteine, …}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ith caution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se vs dense matr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t all combinations are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 the importance of necessary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and sufficient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ond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ersection_of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not just make normal links in the GO DAG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rmal relationships ar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necessar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s on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want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ecessary and sufficient condition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ptures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e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erms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mplicitl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refer to other 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cystei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biosynth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myobla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hydrogen 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ransporter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snoRN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a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wing disc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attern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epidermal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gulation of </a:t>
            </a: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flower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interleukin-18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receptor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B-cell</a:t>
            </a:r>
            <a:r>
              <a:rPr b="0" lang="en-US" sz="2400" spc="-1" strike="noStrike">
                <a:solidFill>
                  <a:srgbClr val="00808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dors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ectod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ormal DAG links only capture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necessary condition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, not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590920"/>
            <a:ext cx="247788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4197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952880"/>
            <a:ext cx="3276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nge in morphology and behavior of a macrophage resulting from exposure to a cytokine, chemokine, cellular ligand, pathogen, or solubl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1840" y="45709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distinguishable by DAG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90920"/>
            <a:ext cx="247788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10080" y="44197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9528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nge in morphology and behavior of a monocyte resulting from exposure to a cytokine, chemokine, cellular ligand, pathogen, or solubl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840" y="45709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aptured by genus-differenti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590920"/>
            <a:ext cx="247824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5000" y="44197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5842080"/>
            <a:ext cx="6276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GO:macrophage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ion_of: GO:cell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ion_of: activates CL:macr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aptured by genus-differenti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724280"/>
            <a:ext cx="247788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256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7792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895480"/>
            <a:ext cx="247788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934320" y="388584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42200" y="44186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80" y="5842080"/>
            <a:ext cx="6276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GO:macrophage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tersection_of: GO:cell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tersection_of: activates CL:macr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6483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: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05120"/>
            <a:ext cx="17528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133720" y="251460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20520" y="2513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752480" y="2895120"/>
            <a:ext cx="2895840" cy="175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9560" y="35802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g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285640" y="5028840"/>
            <a:ext cx="21337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2640" y="51044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activ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urrent status of pre-coordinated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already contains composit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6 pre-coordinated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lenced ge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which has the quality of being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lenc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-BP/CL integration under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rospectively pre-coordinated term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l page has pre-coordinated terms from automatic pars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ruitfly.org/~cjm/ob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vs post- coordinat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rms are in ontology with IDs and computabl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s complexity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lexity can be managed by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new oboedit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t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rms are combined in th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ces more complexity in database schema and database appl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coordination is useful in moder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only used terms should be pre-coordin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g cysteine biosynthesis; oocyte differentiation; pectoral f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void taking to extrem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f ICD-9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do we draw the lin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should be built around one or a few axes of clas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rm ‘explosion’ typically gets large when multiple axes are combin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an change our minds la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- and post- coordination is commensur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mensurabi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or annotates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ucleus^part_of(astrocy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y editor creates new te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boedit cross-produc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trocyte_nucleus = nucleus^part_of(astrocyte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 can be dynamically ‘promoted’ to new term in answer to quer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ous software techniques for achieving th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ost-coordination in GO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 and post- coordination are compatible and commensur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should extend the annotation format to allow denoting more specific clas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olesterol transport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liv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dvanced applications can query th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ndard applications suffer no lo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tended annotations can be used to help seed new terms in th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is already being done (MGI,Dic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just want to capture this in interopeable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ost-composition in gene association fi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column in GA file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819520"/>
          <a:ext cx="8915400" cy="2549520"/>
        </p:xfrm>
        <a:graphic>
          <a:graphicData uri="http://schemas.openxmlformats.org/drawingml/2006/table">
            <a:tbl>
              <a:tblPr/>
              <a:tblGrid>
                <a:gridCol w="2228760"/>
                <a:gridCol w="1733760"/>
                <a:gridCol w="914400"/>
                <a:gridCol w="4038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ne 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rm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pe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AB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:0030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cholesterol transp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located_in(MA:l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AB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:00486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neuron fate develop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as_participant(FBbt:Y_neur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atabase issu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 and GO DB can handle pre- and post- coordin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 theory any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yet fully t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onymous term’ created for coordinated te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 in chado cv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/modules/cv/doc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86400" y="457200"/>
            <a:ext cx="12952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143000"/>
            <a:ext cx="14479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752480"/>
            <a:ext cx="144756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438280"/>
            <a:ext cx="6094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64832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25780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657600"/>
            <a:ext cx="1828800" cy="838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000" y="46022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743200" y="457200"/>
            <a:ext cx="17524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57400" y="1143000"/>
            <a:ext cx="7632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828800"/>
            <a:ext cx="763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5627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360" y="2438280"/>
            <a:ext cx="10666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ed terms currently cause proble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link to external ontology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nda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onsiste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tra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bottlenec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DAGs and confusing display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 have no way to disentang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lution so far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x errors based on results of term name parsing (Obo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active, not proactiv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lution: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actively manag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omposed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licit pre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osed terms should now/soon be coordinated using oboedi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ilding block terms ar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recorded in ontolog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long with composite ter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rrect DAG structure can be inferred from external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make sure GO + CHEBI “align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cement &amp; consistency checking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dditional work can be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ynonyms, text defin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will terms be pre-coordinated by oboed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record a definition for a composite ter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ogical definit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computation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gical definition consists of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eric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erm (aka gen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hips to other terms which serve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iscrimina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is specific term from oth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hildren of the generic term (aka differentia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n be written in natural language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&lt;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eric 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which &lt;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iscriminating 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8-01T00:06:08Z</dcterms:modified>
  <cp:revision>1111</cp:revision>
  <dc:subject/>
  <dc:title>Ontologies for biological annotation</dc:title>
</cp:coreProperties>
</file>